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99250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6996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79692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79692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FEDAA9F-0FE4-4F22-B37C-099B9EF262A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1452F04-7C6A-483E-86F5-A5A00F511BA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A6F3778-B5D4-4EE2-93F9-4BAC25EB871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1E14631-9C2E-43DE-B686-29D76E3AE61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A883A08-219C-4909-91EF-974FB9F5157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3C04B67-E252-4689-B55D-38D63BD0BE6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3CDB66E-690F-4AE9-A4C5-E3094F896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5630ECB-BC13-4167-9AD3-27286D9BEA0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18600" y="1636560"/>
            <a:ext cx="8525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18600" y="3741120"/>
            <a:ext cx="8525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8600" y="1636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7200" y="1636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18600" y="374112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7200" y="374112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18600" y="163656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01120" y="163656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84000" y="163656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18600" y="374112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01120" y="374112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84000" y="374112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18600" y="1636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18600" y="1636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8600" y="1636560"/>
            <a:ext cx="4160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7200" y="1636560"/>
            <a:ext cx="4160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13920" y="66240"/>
            <a:ext cx="629748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18600" y="1636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7200" y="1636560"/>
            <a:ext cx="4160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18600" y="374112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18600" y="1636560"/>
            <a:ext cx="4160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7200" y="1636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7200" y="374112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18600" y="1636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7200" y="1636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18600" y="3741120"/>
            <a:ext cx="8525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8600" y="1636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0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10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spcBef>
                <a:spcPts val="10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spcBef>
                <a:spcPts val="1001"/>
              </a:spcBef>
              <a:buClr>
                <a:srgbClr val="1c4c7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spcBef>
                <a:spcPts val="10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spcBef>
                <a:spcPts val="10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98400" y="2601720"/>
            <a:ext cx="8010720" cy="1199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4c74"/>
                </a:solidFill>
                <a:latin typeface="Arial"/>
              </a:rPr>
              <a:t>Introduction to India Air Quality Resource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4c7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625320" y="4721400"/>
            <a:ext cx="4762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2740"/>
                </a:solidFill>
                <a:latin typeface="Arial"/>
              </a:rPr>
              <a:t>Virendra Set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2740"/>
                </a:solidFill>
                <a:latin typeface="Arial"/>
              </a:rPr>
              <a:t>Rashmi S. Pa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2740"/>
                </a:solidFill>
                <a:latin typeface="Arial"/>
              </a:rPr>
              <a:t>Rakesh Ku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2740"/>
                </a:solidFill>
                <a:latin typeface="Arial"/>
              </a:rPr>
              <a:t>Ajay Deshp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25320" y="3162240"/>
            <a:ext cx="6458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4c74"/>
                </a:solidFill>
                <a:latin typeface="Arial"/>
              </a:rPr>
              <a:t>DST-SERB School on Air Quality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4c74"/>
                </a:solidFill>
                <a:latin typeface="Arial"/>
              </a:rPr>
              <a:t>December 6-7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076720" y="5114880"/>
            <a:ext cx="1067040" cy="1184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6195960" y="5238720"/>
            <a:ext cx="1066680" cy="938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7448400" y="5197320"/>
            <a:ext cx="990720" cy="976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mageep.wustl.edu/images/Symposia_logo.gif"/>
          <p:cNvPicPr/>
          <p:nvPr/>
        </p:nvPicPr>
        <p:blipFill>
          <a:blip r:embed="rId4"/>
          <a:stretch/>
        </p:blipFill>
        <p:spPr>
          <a:xfrm>
            <a:off x="6675480" y="523800"/>
            <a:ext cx="2727360" cy="1805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xtual Sta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8600" y="1636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evils at the gateway to the “Temple of Trut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nfusion and Parad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dequate intellectual and technical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pportunity for leap-frogging (else better Hor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inting towards an abstraction that we are still to articulate ful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ide of  IIT Bombay’s thrust towards “Research that Makes a Differe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Issues - a shared perspective by some…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8600" y="1417320"/>
            <a:ext cx="8525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2740"/>
                </a:solidFill>
                <a:latin typeface="Arial"/>
              </a:rPr>
              <a:t>Whose job is it any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740"/>
                </a:solidFill>
                <a:latin typeface="Arial"/>
              </a:rPr>
              <a:t>Government- by and large caught-up in “immediate”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740"/>
                </a:solidFill>
                <a:latin typeface="Arial"/>
              </a:rPr>
              <a:t>No resource community, voice or a think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740"/>
                </a:solidFill>
                <a:latin typeface="Arial"/>
              </a:rPr>
              <a:t>NGO’s- but do not have the resources ( and some times credi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740"/>
                </a:solidFill>
                <a:latin typeface="Arial"/>
              </a:rPr>
              <a:t>Researchers and acad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740"/>
                </a:solidFill>
                <a:latin typeface="Arial"/>
              </a:rPr>
              <a:t>Reluctant to step into “non-research/academic”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740"/>
                </a:solidFill>
                <a:latin typeface="Arial"/>
              </a:rPr>
              <a:t>Measures of success are not oriented around projects with “societal benefi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2740"/>
                </a:solidFill>
                <a:latin typeface="Arial"/>
              </a:rPr>
              <a:t>Ad hoc response to persistent issues - Lack of robust structure or a platform to participate and share air quality research, education an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775040" y="3005280"/>
            <a:ext cx="316404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nt Efforts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8960" y="1636560"/>
            <a:ext cx="857736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80000"/>
              </a:lnSpc>
              <a:spcBef>
                <a:spcPts val="700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anded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80000"/>
              </a:lnSpc>
              <a:spcBef>
                <a:spcPts val="6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IIT 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80000"/>
              </a:lnSpc>
              <a:spcBef>
                <a:spcPts val="6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IITs – E2C2 Meet in M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80000"/>
              </a:lnSpc>
              <a:spcBef>
                <a:spcPts val="6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urable Minister Jairam Ramesh’s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lnSpc>
                <a:spcPct val="80000"/>
              </a:lnSpc>
              <a:spcBef>
                <a:spcPts val="45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anga Basin Management – IITs proposing joint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lnSpc>
                <a:spcPct val="80000"/>
              </a:lnSpc>
              <a:spcBef>
                <a:spcPts val="45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lnSpc>
                <a:spcPct val="80000"/>
              </a:lnSpc>
              <a:spcBef>
                <a:spcPts val="45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ean Co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lnSpc>
                <a:spcPct val="80000"/>
              </a:lnSpc>
              <a:spcBef>
                <a:spcPts val="45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2 Sequest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80000"/>
              </a:lnSpc>
              <a:spcBef>
                <a:spcPts val="6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Project by 7-IITs together (MoU between MoEF and MH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700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2740"/>
                </a:solidFill>
                <a:latin typeface="Arial"/>
              </a:rPr>
              <a:t>IS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274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82740"/>
                </a:solidFill>
                <a:latin typeface="Arial"/>
              </a:rPr>
              <a:t>- well established, and air quality community needs to be able to advantage of the available pot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274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82740"/>
                </a:solidFill>
                <a:latin typeface="Arial"/>
              </a:rPr>
              <a:t>through partnershi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700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mate Change Research Initiative by DST – need for larger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80000"/>
              </a:lnSpc>
              <a:spcBef>
                <a:spcPts val="6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 Faculty from IIT Bombay a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700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mass based renewable energy efforts – black carb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Key Activities of India AQ CoP</a:t>
            </a:r>
            <a:br>
              <a:rPr sz="2300"/>
            </a:b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1600" y="1937880"/>
            <a:ext cx="852516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d Teleconferences among community members across India and with ESIP AQ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ed community meetings under the umbrella of Joint-IIT meet and Indian Environment Association (I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ed in GEO CF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Engagement Session, Beijing November 1-2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RI Workshop on November 23-24 (USEPA)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A Conference November 26,27,28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AER, December 2011 (MAGEEP Suppor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QW, IITB May 2012 (MPCB Suppor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us – JSW and Thermofis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2000" y="142560"/>
            <a:ext cx="7277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hancement of Air Quality Decision  Pro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774800" y="1503360"/>
            <a:ext cx="6381720" cy="4676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18600" y="1636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connect the air quality community across the Indian subcontinent and GEO AQ C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ng from Earth Observations to Societal Benefits through Collaboration via Communities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stering a Culture of Collaboration in GEO via Communities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, think about collaboration as both an attitude that prompts people to approach their work in the spirit of proactive cooperation and a shared effort that leads to better, more creative outcomes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pfrogging for Air Quality Management in India by engaging with recent developments of new tools an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313920" y="25668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uture Activi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7" descr=""/>
          <p:cNvPicPr/>
          <p:nvPr/>
        </p:nvPicPr>
        <p:blipFill>
          <a:blip r:embed="rId1"/>
          <a:stretch/>
        </p:blipFill>
        <p:spPr>
          <a:xfrm>
            <a:off x="6019920" y="2590920"/>
            <a:ext cx="2286000" cy="1904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"/>
          <p:cNvPicPr/>
          <p:nvPr/>
        </p:nvPicPr>
        <p:blipFill>
          <a:blip r:embed="rId2"/>
          <a:stretch/>
        </p:blipFill>
        <p:spPr>
          <a:xfrm>
            <a:off x="6019920" y="2286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9760" y="1522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ational/Regional, Local Air Quality Analysi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71440" y="1836720"/>
            <a:ext cx="4952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the usefulness of a multi-scale framework to synergis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gional and local measurements offering detailed characte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od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atellite remote sensing offering a synoptic view in temporal and spatial doma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8458200" y="1447920"/>
            <a:ext cx="533520" cy="1981080"/>
          </a:xfrm>
          <a:custGeom>
            <a:avLst/>
            <a:gdLst>
              <a:gd name="textAreaLeft" fmla="*/ 71280 w 533520"/>
              <a:gd name="textAreaRight" fmla="*/ 462240 w 533520"/>
              <a:gd name="textAreaTop" fmla="*/ 361800 h 1981080"/>
              <a:gd name="textAreaBottom" fmla="*/ 14414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93" stAng="-5400000" swAng="5400000"/>
                <a:lnTo>
                  <a:pt x="21600" y="11769"/>
                </a:lnTo>
                <a:arcTo wR="21600" hR="7893" stAng="0" swAng="2756610"/>
                <a:lnTo>
                  <a:pt x="7200" y="21149"/>
                </a:lnTo>
                <a:lnTo>
                  <a:pt x="0" y="17723"/>
                </a:lnTo>
                <a:lnTo>
                  <a:pt x="7200" y="13395"/>
                </a:lnTo>
                <a:lnTo>
                  <a:pt x="7200" y="15334"/>
                </a:lnTo>
                <a:arcTo wR="21600" hR="7893" stAng="2756610" swAng="-2439330"/>
                <a:lnTo>
                  <a:pt x="20939" y="9831"/>
                </a:lnTo>
                <a:arcTo wR="21600" hR="7893" stAng="-317280" swAng="-5082720"/>
                <a:close/>
              </a:path>
              <a:path fill="darkenLess" w="21600" h="21600">
                <a:moveTo>
                  <a:pt x="0" y="0"/>
                </a:moveTo>
                <a:arcTo wR="21600" hR="7893" stAng="-5400000" swAng="5400000"/>
                <a:lnTo>
                  <a:pt x="21600" y="11769"/>
                </a:lnTo>
                <a:arcTo wR="21600" hR="7893" stAng="0" swAng="-317280"/>
                <a:lnTo>
                  <a:pt x="20939" y="9831"/>
                </a:lnTo>
                <a:arcTo wR="21600" hR="7893" stAng="-317280" swAng="-508272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 rot="10800000">
            <a:off x="5333760" y="1142640"/>
            <a:ext cx="533160" cy="2133720"/>
          </a:xfrm>
          <a:custGeom>
            <a:avLst/>
            <a:gdLst>
              <a:gd name="textAreaLeft" fmla="*/ 71280 w 533160"/>
              <a:gd name="textAreaRight" fmla="*/ 461880 w 533160"/>
              <a:gd name="textAreaTop" fmla="*/ 388440 h 2133720"/>
              <a:gd name="textAreaBottom" fmla="*/ 15454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70" stAng="-5400000" swAng="5400000"/>
                <a:lnTo>
                  <a:pt x="21600" y="11709"/>
                </a:lnTo>
                <a:arcTo wR="21600" hR="7870" stAng="0" swAng="2751596"/>
                <a:lnTo>
                  <a:pt x="7200" y="21150"/>
                </a:lnTo>
                <a:lnTo>
                  <a:pt x="0" y="17659"/>
                </a:lnTo>
                <a:lnTo>
                  <a:pt x="7200" y="13267"/>
                </a:lnTo>
                <a:lnTo>
                  <a:pt x="7200" y="15289"/>
                </a:lnTo>
                <a:arcTo wR="21600" hR="7870" stAng="2751596" swAng="-2437461"/>
                <a:lnTo>
                  <a:pt x="20948" y="9789"/>
                </a:lnTo>
                <a:arcTo wR="21600" hR="7870" stAng="-314135" swAng="-5085865"/>
                <a:close/>
              </a:path>
              <a:path fill="darkenLess" w="21600" h="21600">
                <a:moveTo>
                  <a:pt x="0" y="0"/>
                </a:moveTo>
                <a:arcTo wR="21600" hR="7870" stAng="-5400000" swAng="5400000"/>
                <a:lnTo>
                  <a:pt x="21600" y="11709"/>
                </a:lnTo>
                <a:arcTo wR="21600" hR="7870" stAng="0" swAng="-314135"/>
                <a:lnTo>
                  <a:pt x="20948" y="9789"/>
                </a:lnTo>
                <a:arcTo wR="21600" hR="7870" stAng="-314135" swAng="-5085865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6858000" y="1295280"/>
            <a:ext cx="609480" cy="53352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 flipH="1">
            <a:off x="6019560" y="1828800"/>
            <a:ext cx="990360" cy="8380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7238880" y="1828800"/>
            <a:ext cx="1067040" cy="762120"/>
          </a:xfrm>
          <a:prstGeom prst="line">
            <a:avLst/>
          </a:prstGeom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8" descr=""/>
          <p:cNvPicPr/>
          <p:nvPr/>
        </p:nvPicPr>
        <p:blipFill>
          <a:blip r:embed="rId3"/>
          <a:stretch/>
        </p:blipFill>
        <p:spPr>
          <a:xfrm>
            <a:off x="6019920" y="4572000"/>
            <a:ext cx="2292120" cy="208296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9"/>
          <p:cNvSpPr/>
          <p:nvPr/>
        </p:nvSpPr>
        <p:spPr>
          <a:xfrm rot="10800000">
            <a:off x="5410080" y="3505320"/>
            <a:ext cx="533520" cy="2133360"/>
          </a:xfrm>
          <a:custGeom>
            <a:avLst/>
            <a:gdLst>
              <a:gd name="textAreaLeft" fmla="*/ 71280 w 533520"/>
              <a:gd name="textAreaRight" fmla="*/ 462240 w 533520"/>
              <a:gd name="textAreaTop" fmla="*/ 388440 h 2133360"/>
              <a:gd name="textAreaBottom" fmla="*/ 15451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70" stAng="-5400000" swAng="5400000"/>
                <a:lnTo>
                  <a:pt x="21600" y="11709"/>
                </a:lnTo>
                <a:arcTo wR="21600" hR="7870" stAng="0" swAng="2751596"/>
                <a:lnTo>
                  <a:pt x="7200" y="21150"/>
                </a:lnTo>
                <a:lnTo>
                  <a:pt x="0" y="17659"/>
                </a:lnTo>
                <a:lnTo>
                  <a:pt x="7200" y="13267"/>
                </a:lnTo>
                <a:lnTo>
                  <a:pt x="7200" y="15289"/>
                </a:lnTo>
                <a:arcTo wR="21600" hR="7870" stAng="2751596" swAng="-2437461"/>
                <a:lnTo>
                  <a:pt x="20948" y="9789"/>
                </a:lnTo>
                <a:arcTo wR="21600" hR="7870" stAng="-314135" swAng="-5085865"/>
                <a:close/>
              </a:path>
              <a:path fill="darkenLess" w="21600" h="21600">
                <a:moveTo>
                  <a:pt x="0" y="0"/>
                </a:moveTo>
                <a:arcTo wR="21600" hR="7870" stAng="-5400000" swAng="5400000"/>
                <a:lnTo>
                  <a:pt x="21600" y="11709"/>
                </a:lnTo>
                <a:arcTo wR="21600" hR="7870" stAng="0" swAng="-314135"/>
                <a:lnTo>
                  <a:pt x="20948" y="9789"/>
                </a:lnTo>
                <a:arcTo wR="21600" hR="7870" stAng="-314135" swAng="-5085865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458200" y="3809880"/>
            <a:ext cx="533520" cy="1981440"/>
          </a:xfrm>
          <a:custGeom>
            <a:avLst/>
            <a:gdLst>
              <a:gd name="textAreaLeft" fmla="*/ 71280 w 533520"/>
              <a:gd name="textAreaRight" fmla="*/ 462240 w 533520"/>
              <a:gd name="textAreaTop" fmla="*/ 361800 h 1981440"/>
              <a:gd name="textAreaBottom" fmla="*/ 144180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93" stAng="-5400000" swAng="5400000"/>
                <a:lnTo>
                  <a:pt x="21600" y="11769"/>
                </a:lnTo>
                <a:arcTo wR="21600" hR="7893" stAng="0" swAng="2756610"/>
                <a:lnTo>
                  <a:pt x="7200" y="21149"/>
                </a:lnTo>
                <a:lnTo>
                  <a:pt x="0" y="17723"/>
                </a:lnTo>
                <a:lnTo>
                  <a:pt x="7200" y="13395"/>
                </a:lnTo>
                <a:lnTo>
                  <a:pt x="7200" y="15334"/>
                </a:lnTo>
                <a:arcTo wR="21600" hR="7893" stAng="2756610" swAng="-2439330"/>
                <a:lnTo>
                  <a:pt x="20939" y="9831"/>
                </a:lnTo>
                <a:arcTo wR="21600" hR="7893" stAng="-317280" swAng="-5082720"/>
                <a:close/>
              </a:path>
              <a:path fill="darkenLess" w="21600" h="21600">
                <a:moveTo>
                  <a:pt x="0" y="0"/>
                </a:moveTo>
                <a:arcTo wR="21600" hR="7893" stAng="-5400000" swAng="5400000"/>
                <a:lnTo>
                  <a:pt x="21600" y="11769"/>
                </a:lnTo>
                <a:arcTo wR="21600" hR="7893" stAng="0" swAng="-317280"/>
                <a:lnTo>
                  <a:pt x="20939" y="9831"/>
                </a:lnTo>
                <a:arcTo wR="21600" hR="7893" stAng="-317280" swAng="-508272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 flipH="1">
            <a:off x="7238880" y="3276720"/>
            <a:ext cx="76320" cy="1600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7238880" y="3124080"/>
            <a:ext cx="228600" cy="15264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3"/>
          <p:cNvSpPr/>
          <p:nvPr/>
        </p:nvSpPr>
        <p:spPr>
          <a:xfrm>
            <a:off x="6019920" y="228600"/>
            <a:ext cx="1218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4"/>
          <p:cNvSpPr/>
          <p:nvPr/>
        </p:nvSpPr>
        <p:spPr>
          <a:xfrm>
            <a:off x="6019920" y="2590920"/>
            <a:ext cx="15238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5"/>
          <p:cNvSpPr/>
          <p:nvPr/>
        </p:nvSpPr>
        <p:spPr>
          <a:xfrm>
            <a:off x="6019920" y="4572000"/>
            <a:ext cx="10666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7960" y="2130480"/>
            <a:ext cx="7859880" cy="350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You !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DST, Government of India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CORPUS : JSW Steel, Thermofisher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MPCB, Chemtrol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WUStL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MAGEEP-Partners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TISS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IIT Bomb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90400" y="6350040"/>
            <a:ext cx="6400800" cy="10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.in.india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14280" y="257040"/>
            <a:ext cx="62974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JSW-Steel-Logo"/>
          <p:cNvPicPr/>
          <p:nvPr/>
        </p:nvPicPr>
        <p:blipFill>
          <a:blip r:embed="rId1"/>
          <a:stretch/>
        </p:blipFill>
        <p:spPr>
          <a:xfrm>
            <a:off x="5135400" y="5089680"/>
            <a:ext cx="1352880" cy="855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ThermoFisherScientific"/>
          <p:cNvPicPr/>
          <p:nvPr/>
        </p:nvPicPr>
        <p:blipFill>
          <a:blip r:embed="rId2"/>
          <a:stretch/>
        </p:blipFill>
        <p:spPr>
          <a:xfrm>
            <a:off x="6729480" y="5394240"/>
            <a:ext cx="2033640" cy="441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320" y="34560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18600" y="1636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of Community based efforts for Air Quality in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an AQ C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of the activities thus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931760" indent="0">
              <a:spcBef>
                <a:spcPts val="9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16776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xample : 6 City Source Apportionment Stud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8600" y="1636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CB Project – prompted by the Auto Fuel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galore, Mumbai, Delhi, Pune, Kanpur and Chenn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methodology – formulation with assistance from USEPA and D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799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RI- USEPA Co-operative agreement for Source Apportionment Capacity Buil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T Bombay : Development of Source Pro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799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ed for Local, Region and activity specific pro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799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799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799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bustion  and Non-combustion 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799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9 elements, 12 ions, EC/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by 6 cities (CMB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18600" y="1636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301680" indent="-301680">
              <a:spcBef>
                <a:spcPts val="901"/>
              </a:spcBef>
              <a:buClr>
                <a:srgbClr val="1c4c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Accomplish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 to submitted to the 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people from 7 institutes (TERI, IITK, IITM, NEERI Nagpur, NEERI Mumbai, ARAI and IIT B) worked together with the CPCB for 3 years and built the capacity for air quality management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1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“NON-Accomplishm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institutes worked together for 3 years and built the capacity, with no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no platform for researchers to continue th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lution of source apportionment through PM10 adequate ? Need for PM2.5 based source apportion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for societal benefit – but no structure for participants to en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44600" y="1638360"/>
            <a:ext cx="8204040" cy="5003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1219320" y="4343400"/>
            <a:ext cx="579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rehensiv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vironm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sessment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dustrial Clu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22280" y="31752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ecent Developm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18600" y="1636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EF through CPCB published a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of methodology for a Comprehensive Environmental Pollution Index (CEP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700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700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700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the CEPI, 88 Clusters have been declared as critical to very 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3584520" y="4724280"/>
            <a:ext cx="475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18600" y="1636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88_cities"/>
          <p:cNvPicPr/>
          <p:nvPr/>
        </p:nvPicPr>
        <p:blipFill>
          <a:blip r:embed="rId1"/>
          <a:stretch/>
        </p:blipFill>
        <p:spPr>
          <a:xfrm>
            <a:off x="28440" y="-600120"/>
            <a:ext cx="9155160" cy="772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18600" y="1636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EF through CPCB published a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of methodology for a Comprehensive Environmental Pollution Index (CEP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700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700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700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the CEPI, 88 Clusters have been declared as critical to very 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new projects have been banned in these clusters till abatement action plans are developed by the Industry and State Pollution Control 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84520" y="4724280"/>
            <a:ext cx="475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EPI - Ac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7760" y="1487520"/>
            <a:ext cx="852480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s with past experience invited to adopt 3-4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P for management plan to “reduce” CE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lenec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s a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Pollution Control Board asked to submit plan of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try asked SPCB’s to submit plans to get their pollution control systems  upgraded /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n Environmental Association held a round table in IIT Bombay with member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700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700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harashtra Pollution Control Board (MP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700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jarat State Pollution Control Board (GP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21:14:13Z</dcterms:created>
  <dc:creator>PresentationPoint</dc:creator>
  <dc:description/>
  <dc:language>en-US</dc:language>
  <cp:lastModifiedBy>V Sethi</cp:lastModifiedBy>
  <cp:lastPrinted>2005-03-15T07:48:11Z</cp:lastPrinted>
  <dcterms:modified xsi:type="dcterms:W3CDTF">2012-12-06T03:08:45Z</dcterms:modified>
  <cp:revision>625</cp:revision>
  <dc:subject/>
  <dc:title>PowerPoint template</dc:title>
</cp:coreProperties>
</file>